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1776807"/>
        <c:axId val="14399806"/>
      </c:barChart>
      <c:catAx>
        <c:axId val="6177680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4399806"/>
        <c:crosses val="autoZero"/>
        <c:auto val="1"/>
        <c:lblAlgn val="ctr"/>
        <c:lblOffset val="100"/>
        <c:noMultiLvlLbl val="0"/>
      </c:catAx>
      <c:valAx>
        <c:axId val="1439980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177680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DD545-B754-4393-94E3-B887ED682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2A20D-F04C-470C-BF24-B4A1A0190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9BE15-3FAD-4676-B6EC-E4B75043E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34353-FE94-4480-AB5B-5B9D091EB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D227A-998C-42D7-ABDF-272CFA246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B6E76-8032-4417-807D-1B797DCF9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19A3B-BE4A-454C-BFCE-6965B727F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EE4D0-619D-4B05-A97E-A1FBC055E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56C1A-B7D3-483B-BDF4-689CFF649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94417-382D-49F5-8B26-8AF7E68B8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975C1-F778-484E-9C8B-C4415F8C9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19690-4D7B-4F8A-A43E-C41A76046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F2538A-B18D-4FD7-9DAC-D5E62B3B162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