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13941"/>
        <c:axId val="77345068"/>
      </c:barChart>
      <c:catAx>
        <c:axId val="87713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45068"/>
        <c:crosses val="autoZero"/>
        <c:auto val="1"/>
        <c:lblAlgn val="ctr"/>
        <c:lblOffset val="100"/>
        <c:noMultiLvlLbl val="0"/>
      </c:catAx>
      <c:valAx>
        <c:axId val="77345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13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D77-2F07-459A-BF9B-C2A382D2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2FD-C563-4611-9A86-76A9C21C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7C1-29E1-4D6B-9F33-242CF0C7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CC0-3E7E-4C11-A495-B7BE6A5B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906-7600-42F0-8D98-CFE7EED9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191-E0B7-4DFB-86A4-772ECAD3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7EAC-F35E-4048-AFCE-D6F7F65E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C43-137C-43A7-8360-875EB731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954-9157-48F9-92C5-0FA96194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8F8-7D13-4079-92F3-93B6D8B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4E9-EB10-4603-B0D2-EB1A535B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219-15F4-435B-BE40-EC1FB591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B83F1-B3E0-4820-838A-6997B69920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