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1869"/>
        <c:axId val="4258262"/>
      </c:barChart>
      <c:catAx>
        <c:axId val="1881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8262"/>
        <c:crosses val="autoZero"/>
        <c:auto val="1"/>
        <c:lblAlgn val="ctr"/>
        <c:lblOffset val="100"/>
        <c:noMultiLvlLbl val="0"/>
      </c:catAx>
      <c:valAx>
        <c:axId val="4258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1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F225-8865-42F4-A34D-FC38E66E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99FE-D5A2-42BF-AD5E-9BB0068D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7027-093B-49A0-AC0A-968BB6B1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F26-EB73-4786-9312-B27F5021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9E4-FA53-4A70-AD7C-C7FF4E3D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D5E-2115-4451-ADB3-E2E85BC0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6A8-4345-4A6B-8BF3-B4E8CD57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011-BFF6-4575-8F15-4698532C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E47-BF42-4CAE-A711-11FAB795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224-D210-47CC-ACB7-8B2CB440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C46-6337-48D0-84E6-6CBBBB55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146-AA47-4BBD-9171-1D76788B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A6194-29C3-498B-B13A-5453EC26C5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