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281337"/>
        <c:axId val="6463024"/>
      </c:barChart>
      <c:catAx>
        <c:axId val="402813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63024"/>
        <c:crosses val="autoZero"/>
        <c:auto val="1"/>
        <c:lblAlgn val="ctr"/>
        <c:lblOffset val="100"/>
        <c:noMultiLvlLbl val="0"/>
      </c:catAx>
      <c:valAx>
        <c:axId val="64630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813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75CF-8046-4231-B7B0-EF6AA13F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9EF9-2414-4E92-91C3-AB969087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07BE-EE5B-4866-A2E5-83460E9D1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424A-5E77-4BEF-8D94-50D36CC80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339F-EE7D-429A-90F8-A87372D0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29E2-9CAE-42F5-8A61-E720B119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262B-BC12-49DF-83F2-13175415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240A-71B2-40B3-B63C-B6F461B6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5F46-306C-4D30-83C6-4C4BB8DB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1075-2A95-4EB1-8065-595FA396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4748-2462-488E-8F8E-2DEDA48F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908A-8F75-4367-A01F-8FD0EA85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06921-B494-4B38-911F-F3159D6FA1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