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44569"/>
        <c:axId val="87191739"/>
      </c:barChart>
      <c:catAx>
        <c:axId val="61444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91739"/>
        <c:crosses val="autoZero"/>
        <c:auto val="1"/>
        <c:lblAlgn val="ctr"/>
        <c:lblOffset val="100"/>
        <c:noMultiLvlLbl val="0"/>
      </c:catAx>
      <c:valAx>
        <c:axId val="87191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4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AF0-CF5B-48F8-A7D8-AE76C9F5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5AD-E04B-4132-90B6-A74D680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F1A-2FE6-465E-BCC8-166E44F5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5F7-46DA-4080-A8B9-9468145C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D4E-04B1-4C4E-8EFE-6F9B21B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E94-DCFA-4394-B664-7680FF80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BB8-9DFB-4E74-823C-5EA192F3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98D-B2BD-4D20-805C-4CAFBB8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D32-26D6-4053-A6FC-F7448042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5C4-537F-46D2-B2BD-BC4F4FA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6F0-F642-41AE-814E-819C1DD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DF8-F7AC-49E9-8D80-13767CC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B68FF-4650-49B0-AEE2-02E4E0A10B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